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474E-0EED-403F-8AAF-C4F7F026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B04B-8E86-4CF4-A8CE-430100A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F786-BE11-4B60-939E-FD4F2DB6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2506-5AEF-459C-9FFE-AB199D68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C17-E5BD-4E87-8C2D-F911333B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950A-AF7A-4681-9594-EB71261B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1BC7-8143-4306-A3C8-E5F0AE1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0E6-CD7A-4923-85E0-A77817E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173-D57E-446D-B9EE-C078696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7D2F-0E7E-4FAD-BDFD-DA73DB42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467-405D-45B3-B6C3-CE1969D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F18A-E19E-4FE2-A547-23E8903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BA7B-6BAB-48CF-88B5-997975D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B9EC-3C07-4F00-8BE2-43B7D92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B79F-BC85-4054-BBD8-FA7F6F5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47B-1550-4598-A609-50C6204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29D-F47E-4C0C-BDFF-9D8B717A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3DF1-956A-472D-92A4-46FDC75D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FD8A-36C6-4DD8-9378-6622BFB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E93B-57B4-4B51-80D7-2D72B17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7AE2-BC96-447B-B770-E2A541C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9A48-CA3C-4D5D-AF24-2527F703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0DD9-2AD6-41E6-937F-771D9AC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2482-AA5A-42AF-A42F-C1CF2407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3C20-6D65-489A-BC23-4EB4B1C87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7F1-9FC4-4050-8866-27E38B400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7" descr="school06-06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chool10-08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chool05-14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6" descr="MC900295709[1]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M900236274[1]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900282166[1]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3600"/>
            </a:b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3" descr="ratatouille10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50" descr="school10-03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MC900240685[1]"/>
          <p:cNvPicPr/>
          <p:nvPr/>
        </p:nvPicPr>
        <p:blipFill>
          <a:blip r:embed="rId1"/>
          <a:stretch/>
        </p:blipFill>
        <p:spPr>
          <a:xfrm>
            <a:off x="6516720" y="4000680"/>
            <a:ext cx="24480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school08-02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school02-28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school10-04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school05-05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school02-04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school10-04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school06-17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school10-06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hool08-01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school10-01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chool11-15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school12-05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Admin</cp:lastModifiedBy>
  <dcterms:modified xsi:type="dcterms:W3CDTF">2010-05-28T08:56:26Z</dcterms:modified>
  <cp:revision>11</cp:revision>
  <dc:subject/>
  <dc:title>Зачем нужны дроби?</dc:title>
</cp:coreProperties>
</file>